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7345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F860-DCA7-4180-82D5-24A0E0F45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AD56-0BD0-4B0F-8281-BD5F92FF3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4983-9752-48A5-AF2B-4C96D33B0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CD33-A6BC-4F16-852B-6CB4FB002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443E-7B5C-4C39-B50B-2FDD581BF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5EEF-14EC-476B-A35E-AC1E7EE28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6EC4-134F-4637-8276-D5C41B550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C15E-50FB-4E77-BA4E-992896421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6F19-160D-417B-B4F4-3AE437590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0418-F1B7-480A-8F8B-D3DDB245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50F6-4C50-46F6-ACBA-98E6BB99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FA90-7B2A-4604-857E-D7FA5580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F0AE7-6690-45B9-91F6-D8F5F90A3A4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95280" y="692280"/>
            <a:ext cx="3419640" cy="1442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95280" y="4508640"/>
            <a:ext cx="820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LAS INSTITUCIONES LOCALES Y SU VINCULACIÓN CON LA UNIVERSID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Experiencia Incubadora de Empresas de Base Tecnológica UNNETEC-INNO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63640" y="2496960"/>
            <a:ext cx="68389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rebuchet MS"/>
              </a:rPr>
              <a:t>VII Reunión Plenaria RedVITE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Corrientes 17 y 18 de mayo de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3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3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La política de la actual gestión de gobierno </a:t>
            </a:r>
            <a:r>
              <a:rPr b="0" lang="es-AR" sz="2600" spc="-1" strike="noStrike">
                <a:solidFill>
                  <a:srgbClr val="000000"/>
                </a:solidFill>
                <a:latin typeface="Arial"/>
              </a:rPr>
              <a:t>de la Municipalidad de la Ciudad de Corrientes está orientada por un lado a garantizar la prestación efectiva y eficiente los servicios públicos esenciales</a:t>
            </a:r>
            <a:r>
              <a:rPr b="1" lang="es-AR" sz="2600" spc="-1" strike="noStrike">
                <a:solidFill>
                  <a:srgbClr val="000000"/>
                </a:solidFill>
                <a:latin typeface="Arial"/>
              </a:rPr>
              <a:t>, y por otro lado se orienta a sentar las bases de un municipio moderno</a:t>
            </a:r>
            <a:r>
              <a:rPr b="0" lang="es-AR" sz="2600" spc="-1" strike="noStrike">
                <a:solidFill>
                  <a:srgbClr val="000000"/>
                </a:solidFill>
                <a:latin typeface="Arial"/>
              </a:rPr>
              <a:t>, asumiendo el desafío de ejercer el nuevo rol que se requiere del gobierno municipal, como generador y promotor del </a:t>
            </a:r>
            <a:r>
              <a:rPr b="1" lang="es-AR" sz="2600" spc="-1" strike="noStrike">
                <a:solidFill>
                  <a:srgbClr val="000000"/>
                </a:solidFill>
                <a:latin typeface="Arial"/>
              </a:rPr>
              <a:t>desarrollo local de la ciudad</a:t>
            </a:r>
            <a:r>
              <a:rPr b="0" lang="es-AR" sz="2600" spc="-1" strike="noStrike">
                <a:solidFill>
                  <a:srgbClr val="000000"/>
                </a:solidFill>
                <a:latin typeface="Arial"/>
              </a:rPr>
              <a:t>, inserta en una microregión visualizada más allá de los límites de su territori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164360" y="5708520"/>
            <a:ext cx="1763640" cy="744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79280" y="549360"/>
            <a:ext cx="83534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cc"/>
                </a:solidFill>
                <a:latin typeface="Impact"/>
              </a:rPr>
              <a:t>MUNICIPALIDAD DE LA CIUDAD DE CORRIEN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cc"/>
                </a:solidFill>
                <a:latin typeface="Impact"/>
              </a:rPr>
              <a:t>Institución de gobierno promotora del desarrollo lo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203184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Convenio Marco de Cooperación – 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28 de diciembre de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Objetivo general: Articular programas y proyectos conjuntos que contribuyan a impulsar, desde una visión estratégica, procesos de desarrollo local en el municipio de Corrientes priorizando aspectos relacionados con la formación, capacitación y perfeccionamiento de Recursos Humanos de ambas instituciones; la investigación, la asistencia técnica en programas de cooperación nacional e internacional al desarrollo; la gestión para la captación de recursos técnicos y económicos destinados a programas y proyectos de desarrollo municipal y local; la transferencia de conocimientos, experiencias y la prestación de servicios especializ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084720" y="452520"/>
            <a:ext cx="1764000" cy="744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4000" y="67788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cc"/>
                </a:solidFill>
                <a:latin typeface="Impact"/>
              </a:rPr>
              <a:t>VINCULA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48360" y="1114560"/>
            <a:ext cx="38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cc"/>
                </a:solidFill>
                <a:latin typeface="Impact"/>
              </a:rPr>
              <a:t>Municipalidad de la Ciudad de Corr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1114560"/>
            <a:ext cx="338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cc"/>
                </a:solidFill>
                <a:latin typeface="Impact"/>
              </a:rPr>
              <a:t>Universidad Nacional del Norde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Sol en colores 2" descr=""/>
          <p:cNvPicPr/>
          <p:nvPr/>
        </p:nvPicPr>
        <p:blipFill>
          <a:blip r:embed="rId3"/>
          <a:stretch/>
        </p:blipFill>
        <p:spPr>
          <a:xfrm>
            <a:off x="1701720" y="549360"/>
            <a:ext cx="5666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94920" y="1744560"/>
            <a:ext cx="3970440" cy="25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bjetivo especí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rindar asistencia y capacitación a un grupo específico de funcionarios municipales, para formular una herramienta de gestión, que permita establecer las principales tareas a realizar y su valoración estimada, con el fin de mejorar la toma de decisiones del Gobierno Municip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rcRect l="0" t="22051" r="5451" b="0"/>
          <a:stretch/>
        </p:blipFill>
        <p:spPr>
          <a:xfrm>
            <a:off x="539640" y="4065480"/>
            <a:ext cx="3745080" cy="2316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rcRect l="0" t="14481" r="0" b="0"/>
          <a:stretch/>
        </p:blipFill>
        <p:spPr>
          <a:xfrm>
            <a:off x="4968720" y="620640"/>
            <a:ext cx="3780000" cy="2346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7164360" y="5708520"/>
            <a:ext cx="1763640" cy="744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4920" y="1254240"/>
            <a:ext cx="49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cc"/>
                </a:solidFill>
                <a:latin typeface="Impact"/>
              </a:rPr>
              <a:t>Programa de Descentraliz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3213000"/>
            <a:ext cx="424800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etodologia: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lleres particip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articipantes: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Secretarios, Subsecretarios, Directores Generales y Direct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Resultados alcanzad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- Proceso: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mejoramiento en las capacidades de gestión en los funciona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roducto: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jercicio concreto de elaboración participativa de directrices del programa. Formulación de proyec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2560" y="500040"/>
            <a:ext cx="49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cc"/>
                </a:solidFill>
                <a:latin typeface="Impact"/>
              </a:rPr>
              <a:t>VINCULACION UNNE-MCC</a:t>
            </a:r>
            <a:r>
              <a:rPr b="0" lang="es-ES_tradnl" sz="2000" spc="-1" strike="noStrike">
                <a:solidFill>
                  <a:srgbClr val="0099cc"/>
                </a:solidFill>
                <a:latin typeface="Arial"/>
              </a:rPr>
              <a:t>                  </a:t>
            </a:r>
            <a:r>
              <a:rPr b="0" lang="es-ES_tradnl" sz="2000" spc="-1" strike="noStrike">
                <a:solidFill>
                  <a:srgbClr val="0099cc"/>
                </a:solidFill>
                <a:latin typeface="Impact"/>
              </a:rPr>
              <a:t>Acciones desarroll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164360" y="5708520"/>
            <a:ext cx="1763640" cy="7448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79280" y="1701720"/>
            <a:ext cx="4680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66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Impact"/>
              </a:rPr>
              <a:t>MISION  A PORTO ALEGRE (Estado Río Grande do Sul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0066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Impact"/>
              </a:rPr>
              <a:t>Participación en el III Seminario Internacional de la Red nº 9 de Urbal (“Financiamiento Local y Presupuesto Participativo”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0066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Impact"/>
              </a:rPr>
              <a:t>Universidad Federal de Río Grande do Sul. Visita a SEDETEC / Incubadoras de empresa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0066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Impact"/>
              </a:rPr>
              <a:t>Pontificia Universidad Católica do Río Grande do Sul. Visita a Incubadora de empres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66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Impact"/>
              </a:rPr>
              <a:t>MISION A CURITIBA (Estado de Paraná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0066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Impact"/>
              </a:rPr>
              <a:t>Universidad Federal de Paraná. Firma de Convenio de Cooperació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0066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Impact"/>
              </a:rPr>
              <a:t>Municipio y Curitiba S.A. - Visita a Parque Tecnológico e Incubadoras de Empres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0066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148360" y="620640"/>
            <a:ext cx="3751200" cy="5040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82560" y="500040"/>
            <a:ext cx="49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cc"/>
                </a:solidFill>
                <a:latin typeface="Impact"/>
              </a:rPr>
              <a:t>VINCULACION UNNE-MCC</a:t>
            </a:r>
            <a:r>
              <a:rPr b="0" lang="es-ES_tradnl" sz="2000" spc="-1" strike="noStrike">
                <a:solidFill>
                  <a:srgbClr val="0099cc"/>
                </a:solidFill>
                <a:latin typeface="Arial"/>
              </a:rPr>
              <a:t>                  </a:t>
            </a:r>
            <a:r>
              <a:rPr b="0" lang="es-ES_tradnl" sz="2000" spc="-1" strike="noStrike">
                <a:solidFill>
                  <a:srgbClr val="0099cc"/>
                </a:solidFill>
                <a:latin typeface="Impact"/>
              </a:rPr>
              <a:t>Acciones desarroll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20" y="139716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cc"/>
                </a:solidFill>
                <a:latin typeface="Impact"/>
              </a:rPr>
              <a:t>Misión conjunta a Brasi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227640" y="1052640"/>
            <a:ext cx="2624400" cy="19684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79280" y="1917720"/>
            <a:ext cx="5905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ipación en Conferencias y actividades en el marco de la VII EXPO APICC y del III Foro de Intendentes de Ciudades Capitales del Norte Argenti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uniones Técnicas con funcionarios de distintas áreas de la Municipalidad y de la UN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227640" y="3500280"/>
            <a:ext cx="2695680" cy="2022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39640" y="3613320"/>
            <a:ext cx="561672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ados concre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s para la suscripción de Acta Acuerdo Específica en el Marco del Convenio MCC-PMC, a los efectos de trabajar en el proceso de Reforma del Estado Municip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s para la suscripción de un Convenio marco con Curitiba S.A. para la asistencia en la definición de estrategias orientadas al desarrollo económico de la Ciudad de Corr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7164360" y="5708520"/>
            <a:ext cx="1763640" cy="7448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50920" y="1397160"/>
            <a:ext cx="590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cc"/>
                </a:solidFill>
                <a:latin typeface="Impact"/>
              </a:rPr>
              <a:t>Misión conjunta PMC-Curitiba S.A.-UFP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2560" y="500040"/>
            <a:ext cx="49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cc"/>
                </a:solidFill>
                <a:latin typeface="Impact"/>
              </a:rPr>
              <a:t>VINCULACION UNNE-MCC</a:t>
            </a:r>
            <a:r>
              <a:rPr b="0" lang="es-ES_tradnl" sz="2000" spc="-1" strike="noStrike">
                <a:solidFill>
                  <a:srgbClr val="0099cc"/>
                </a:solidFill>
                <a:latin typeface="Arial"/>
              </a:rPr>
              <a:t>                  </a:t>
            </a:r>
            <a:r>
              <a:rPr b="0" lang="es-ES_tradnl" sz="2000" spc="-1" strike="noStrike">
                <a:solidFill>
                  <a:srgbClr val="0099cc"/>
                </a:solidFill>
                <a:latin typeface="Impact"/>
              </a:rPr>
              <a:t>Acciones desarroll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50920" y="1397160"/>
            <a:ext cx="70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cc"/>
                </a:solidFill>
                <a:latin typeface="Impact"/>
              </a:rPr>
              <a:t>Incubadora de Empresas de Base Tecnológica UNNETEC-INNOV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9280" y="2494080"/>
            <a:ext cx="626436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389880" indent="-3898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irma de Acta de Intención para la constitución de la Incubadora. Junio de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9880" indent="-3898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titución de Comité de Gestió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9880" indent="-3898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irma de Acuerdo Institucional. Diciembre de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9880" indent="-38988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- Aprobación de actuaciones del C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9880" indent="-38988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- Conformidad con el Proyecto de Estatuto de la Fund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9880" indent="-38988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- Compromiso de gestionar su homologación por parte de los cuerpos colegi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9880" indent="-38988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- Compromiso de impulsar acciones para la puesta en marcha de la Incubad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9880" indent="-3898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amitación de personería jurídica. Marzo de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9880" indent="-3898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aboración de proyecto de Ordenanza. Presentación a Concejo Deliberante. Abril de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9880" indent="-3898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álisis de alternativas edilíceas para la implementación del Nodo Corri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2560" y="500040"/>
            <a:ext cx="49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cc"/>
                </a:solidFill>
                <a:latin typeface="Impact"/>
              </a:rPr>
              <a:t>VINCULACION UNNE-MCC</a:t>
            </a:r>
            <a:r>
              <a:rPr b="0" lang="es-ES_tradnl" sz="2000" spc="-1" strike="noStrike">
                <a:solidFill>
                  <a:srgbClr val="0099cc"/>
                </a:solidFill>
                <a:latin typeface="Arial"/>
              </a:rPr>
              <a:t>                  </a:t>
            </a:r>
            <a:r>
              <a:rPr b="0" lang="es-ES_tradnl" sz="2000" spc="-1" strike="noStrike">
                <a:solidFill>
                  <a:srgbClr val="0099cc"/>
                </a:solidFill>
                <a:latin typeface="Impact"/>
              </a:rPr>
              <a:t>Acciones desarroll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164360" y="5708520"/>
            <a:ext cx="1763640" cy="7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retaría de Políticas Universitarias -SPU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sterio de Educación, Ciencia y Tecnología de la N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a de Promoción de la Universidad Argent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ocatoria de proyectos “Un Puente entre la Universidad y la Sociedad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arrollo de capacidades emprended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alecimiento institucional de un ámbito de articulación publico-privado en la microregió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164360" y="5708520"/>
            <a:ext cx="1763640" cy="7448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82560" y="500040"/>
            <a:ext cx="5689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cc"/>
                </a:solidFill>
                <a:latin typeface="Impact"/>
              </a:rPr>
              <a:t>VINCULACION UNNE-MCC</a:t>
            </a:r>
            <a:r>
              <a:rPr b="0" lang="es-ES_tradnl" sz="2000" spc="-1" strike="noStrike">
                <a:solidFill>
                  <a:srgbClr val="0099cc"/>
                </a:solidFill>
                <a:latin typeface="Arial"/>
              </a:rPr>
              <a:t>                  </a:t>
            </a:r>
            <a:r>
              <a:rPr b="0" lang="es-ES_tradnl" sz="2000" spc="-1" strike="noStrike">
                <a:solidFill>
                  <a:srgbClr val="0099cc"/>
                </a:solidFill>
                <a:latin typeface="Impact"/>
              </a:rPr>
              <a:t>Acciones en desarrollo con Organismos N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3141720"/>
            <a:ext cx="8424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ubsecretaría de la Pequeña y Mediana Empresa –SEPYME-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inisterio de Economía de la N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ograma de Red de Agencias de Desarro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gencia de Desarrollo de la Ciudad de Corrien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stituciones promotoras: APICC-MCC-UN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8360" y="4797360"/>
            <a:ext cx="842472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retaría de Políticas Soci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sterio de Desarrollo Social de la N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 Nacional de Desarrollo Local y Economía Social “Manos a la Obr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ínea de Financiamiento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rendimientos Productivos-Servicios de Apoyo a la Produc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yectos de Capacit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gencia Española de Cooperación Internacional -AECI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bajada de España. Programa de Asistencia Técn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mer Seminario sobre instrumentos de gestión para el desarrollo local en ciudades intermedias”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4 al 07 de septiembre de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164360" y="5708520"/>
            <a:ext cx="1763640" cy="744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82560" y="500040"/>
            <a:ext cx="612144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cc"/>
                </a:solidFill>
                <a:latin typeface="Impact"/>
              </a:rPr>
              <a:t>VINCULACION UNNE-MCC</a:t>
            </a:r>
            <a:r>
              <a:rPr b="0" lang="es-ES_tradnl" sz="2000" spc="-1" strike="noStrike">
                <a:solidFill>
                  <a:srgbClr val="0099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2779560"/>
            <a:ext cx="84247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icina de Cooperación Italia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bajada de Italia. Programa Integrado de Cooperación Técnica -PICT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dor productivo del Mueble de Mad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4149720"/>
            <a:ext cx="842472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rograma de Naciones Unidas para el Desarrollo -PNUD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nvenio de Asistencia Técnica PNUD-M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mpon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Fortalecimiento del modelo de gestión orientado al ciudad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Fortalecimiento del modelo  de atención integrado de la problemática socio sanitaria municip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Apoyo al Desarrollo de un modelo local integral y sustentable del                       Municipio de Corri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9280" y="907920"/>
            <a:ext cx="712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99cc"/>
                </a:solidFill>
                <a:latin typeface="Impact"/>
              </a:rPr>
              <a:t>Acciones en desarrollo con Organismos Intern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4T21:54:29Z</dcterms:created>
  <dc:creator>usuario</dc:creator>
  <dc:description/>
  <dc:language>en-US</dc:language>
  <cp:lastModifiedBy> </cp:lastModifiedBy>
  <dcterms:modified xsi:type="dcterms:W3CDTF">2007-05-17T13:06:00Z</dcterms:modified>
  <cp:revision>48</cp:revision>
  <dc:subject/>
  <dc:title>Diapositiva 1</dc:title>
</cp:coreProperties>
</file>